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4A6-0174-4E86-8DDC-699A88AA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A88-9C65-4E5B-828E-D8CDE064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E3E34-F527-45D7-BBAC-F28AA085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71C66-CB06-4417-93FF-502E92C3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B1486-5B82-4FC4-A3D8-ABD538EC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A42A3-6170-4D8C-8979-DD1D2492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B2DC0-67B8-4563-91C7-B10A8CC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CFA65-94CF-49B3-A79D-968E94FB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717DD-1FB2-45C2-8359-92AB56B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8CFE6-00F2-4C04-8CF5-C3B7645B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3F211-65BA-4E9D-ABF8-956DA175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F4D75-BF18-45EB-9566-BB9340A5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705-4936-4AA3-871F-D43EBB0B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DE219-1EA4-4EA2-8D33-541A762E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A0D1D-8975-440D-BC87-B4765E0E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7982A-8742-4242-BD39-D287EF37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EEB6F-BE79-4DBF-A722-62F01D52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E4944-F15F-424B-923B-C0B20292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90C1B-223A-4313-9570-093BC1C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F3C93-A1DE-4F39-B381-306F11EA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96341-65E7-4734-A8FD-F040584D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69DC2-2432-4B49-9E5F-DE6793A5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BB7D9-AD19-43EC-9892-7BD974D5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59A-E186-463B-8272-F63BA6FE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BD5B-6BA4-4601-B054-CA1F35ED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FF61C-4BAF-4AE6-9C24-AD380686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E73FA-E201-4F8C-A802-64F9F95D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18C35-2274-49B3-BA6C-D6644DBC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9F6E4-91BC-4989-A7FB-9A94640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7280D-E3F7-4874-ADD2-C75BDF62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65D33-208D-4508-97D4-000B0FB8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FC0F3-BDE1-4D6D-8DD9-25D4CDC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E81CC-AA01-44EE-8E77-36F7627E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8C781-D800-4B4A-AC0C-85C978F9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DA14-6B00-4451-A98A-CFCB5308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1EEA-42C4-446A-BB76-667AA445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59631-28D2-4077-8FF2-ADE033EA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38790-A3EA-4579-84ED-BD7AAED9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7E79F-4699-4DC5-9E81-5213E140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2D4DF-F217-483A-8B14-9ABF02F9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9CA98-16F3-4617-878E-75940F71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1E672-300A-480E-8F4F-BECFDF4D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ADD44-A009-40C3-8AD8-2FC618FD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462EB-3B7E-4016-A356-C20C700C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56958-DCDD-4C8F-95A1-6469204D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EAF3-0087-48C5-ABFF-10EAE467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EDF55-F7D0-4164-AF16-F472BD2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FEEE7-741F-44EA-BB2F-5FE6DCB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9EF68-72C5-402E-9550-21EA52E8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92C97-0BB2-4D59-8B75-01AD6DDD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5D642-958E-4451-AB66-4A4BF340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15641-C855-4119-925D-9FB9DA7C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D2F58-18A1-49EC-BFA4-DE59458D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2F5A9-E180-46F6-98CF-0500038F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A65C0-930C-45BA-BDA2-69887B02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E6C73-D49D-480A-99B5-3AA6A1E2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9B8D-E664-408C-95BA-F2B5E61D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4DD8B-69C8-4180-B5EF-8C7F27AE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A9759-300A-4328-9B7D-307E7BC6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38761-85AB-4F91-9202-E6A05F54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5CC29-56A0-472C-B69D-712B10D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CA6F4-99CA-4AC3-A038-E3C34C1C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203FA-55AA-49F1-AD4F-6265B46F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FBDA7-1932-48FE-9429-27600454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54AB2-3DDC-4316-806A-253424A3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BC9A8-FE7F-4EB2-8401-AC3DE1AB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4F032-C009-488F-A567-9D652388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1E1C-0CC1-4412-B5F3-C49FD68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C1D83-DB9D-4773-862C-AB0EE815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1C3DB-E53F-4644-B4A8-51067626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56FF3-458E-46C4-A9B2-110F2F4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DD401-75E4-47B9-A55E-FA47CAD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CF666-8C60-4218-A1D0-A09BFD1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E7889-D497-45B4-BDD0-778A6AA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54B49-E0DB-4AF9-B2D5-9A3E08C6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EFBC7-CEC9-4DF5-B867-2E74F394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FEEC4-6093-4F13-8455-E28E3359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FABAD5-12CE-4F22-B726-6D4B8C28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629D-12DF-4B71-8657-3A9759C9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47927-A6BD-4F88-B212-643BFC63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A9C0D-B1FF-40EB-A513-BFE393AD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0D985-77CA-4E03-A29C-350C5B89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1047F-184D-4766-AF98-4BD56A54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313C6-829C-4540-BC53-1F0FFEEE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8C476-7FC5-4B3B-9D53-667BD814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7FF32-3E20-4D83-87B9-E3DB689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CAB48-475F-4686-99CA-786951A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B0A19-B36D-4ADC-9A79-4A5D8272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FCEC0-629E-4C05-9945-CBDC6DC3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62BB-AD05-4E46-8820-737B5092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1DBEF-34BB-440D-B6DF-17971BBF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E88FA-C351-4D6F-A8E9-C5C34F82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57706-2C0A-425E-B71B-EFBACAD5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9F676-F35F-44C2-A801-CEC11C11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CDE30-0D68-45AE-84BB-80160943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65780-CD66-416A-A31C-A1F1ABC9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658DF-46C1-4E8F-A69B-C9C77CDE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72D60-2821-45E9-AF61-2D5A3B04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DB11B-E2F4-4094-B6BB-690661D8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4C0E4-BBA4-4691-9E2D-784865F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4C28-627D-44B1-BAB1-BC63D00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2FA39-FCE1-4C44-A54C-7F218D84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7E1F6-345E-47FC-9456-5C6D9FE1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EBB69-0FAA-4218-8C3C-70FD0C28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5791E7-C2CF-4D42-B23C-9A246F53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2DFA4-0B65-4D7D-9FDB-40B2D55F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FB107-EE5C-4B22-B9E7-8006EFAA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364EE-2318-41C3-88DA-4944EE0E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D472A-95AE-4F98-B764-CC950E46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8442B-23AA-4F49-AC40-DF2FC06C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577B9-2E68-4DAD-9A36-BBD7B434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C74-9419-461B-94CD-41541087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5846-0631-4432-B2B8-583F4B61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69569-205A-4577-B0D1-499AAB8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F3965-BA39-4CA3-8A29-DA0A9A2F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368D0-C691-4D1F-A523-AC2B9A07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28BB3-C1C8-409A-9E69-5091DC70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39AFE-7191-481D-8638-DE5BAB09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CA740-7659-4F6B-8DCD-F33B41A5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E07518-4461-43A8-BEA4-2D91D13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24719-9C26-471B-B738-17130CE6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8418B-4534-4212-8397-2ACB857F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10F74A-3396-4844-B374-C82A15B5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926-26AB-4774-8F36-617D0C46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ACFFC-C280-4D21-B16C-C8347E0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3CC1F-5D22-479B-9E87-DEFAC97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E45024-CBFD-4A9F-AAE0-298BE942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5603B6-12B5-4BDC-9ED9-113B9D7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17647-D7B4-4464-9107-CD1555F3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2D6EEE-AC07-4ED7-B592-4D388565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084FC8-B05B-42E0-B4E2-B34B0855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A90EF9-95A0-484F-9E56-04C050AF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3EF44-3068-46A9-BC3E-2B77F6A2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54319-6FEA-483C-9B06-2737076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CD9-8655-437F-A1DE-38710588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6D9AEC-B0D0-46AC-A7F0-07AB3F59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9FDB8-0EC8-4AED-A407-9754EC4F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BD09F-AD4B-4629-9C0B-369E1EC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AE780-C464-4416-B98A-AB21640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74C530-E435-452D-8C27-B2CA1E78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73135-A126-4F00-B205-596D8B49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65EDA9-F96F-43BC-BAF1-D2AA9F73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9084C3-39A6-45B4-A6F4-106F16EF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A0C33-0AB3-43AF-B412-C9F87D78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180339-ADD9-4BE0-9CBB-962FF374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4B0C-0169-4FF4-BA66-AC702FE8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6D7E55-9EB1-4359-B374-A49B565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566CC4-5540-4808-BB04-BBD59C99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E7860-8607-4CA0-B320-0C738CD1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B13C0-0497-4C80-9CA7-4FCD2803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74E20-F7ED-4B4F-BC7A-630E44E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B0886-67E4-4737-87AE-AFAAB3F7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33C21-1112-4C93-9366-D104A6D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EE112-33CE-433E-98FD-5DF9A9F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F5EE5-7C63-4A1D-9D17-64740B4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5FCD4-3E85-4BCC-81DA-D66458F1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9703-AB38-4552-B902-1D4E9B6C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25B4F6-C790-4E60-8F66-40DFD35B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A3C688-CFF6-49D9-99E7-21EB4FC6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025D2-CB6C-424D-9ECB-02CECA03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C72B5D-2CEE-4A40-BA12-D556D3BA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9FF20-77E4-4AED-8BAA-EA185953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3D1CFC-815A-471D-888B-269ABB82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3EB612-3645-464A-9943-DB0E7494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2A346-B55F-4348-8106-C7E30718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1D351-8843-4DF4-8C0E-11109321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8F85EF-E146-444C-9B3A-B919ED24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7FDF2-BAF6-4CF2-9CC2-FC53C28E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E16CB4-9DEC-4904-94A2-FC0D132F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FC6C7-D17A-45C9-9DCB-3968C0BE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FED6AE-8EF1-4181-8A46-88FB0599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C92E-5512-42B7-8714-8D841E19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5E8E-2F86-4B4A-9D7F-A0711F49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02D0-D043-4027-8CFC-8E3DCCBB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66A7-DB59-40B4-A8E7-F97BA34C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9A5-6053-468A-A2B1-478BD77D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0CDE-800A-4A3A-B2E8-096D5769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DD7A-0833-4254-A7C5-0130D403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7C5B-808F-4869-9CC0-707B0D3B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94D0B-AF46-46B5-9424-DFCDC86B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04C1-AF80-4A3D-9CBC-32140253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891B-0B4A-4CD2-9829-E737870C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B4B6-EA9A-4478-AB8A-A8C8F673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B22F-B274-42F8-B37B-BE2E53F8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EDDF-0C3D-487D-865E-47C7D346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226B-9C97-421F-B18B-656CDE06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5B5-873B-4816-8904-EDEF5EA1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527D-7B1C-4FA9-AD41-B282893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7081D-7EA1-4F07-9B33-754BA1ED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41FF-B172-47FE-8D28-4CA071D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9E54-8323-45E0-B6A5-C34F0C6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63AF-8BD7-4281-BA0E-850B9F50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BED19-770B-459D-A091-1FED7D68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7DF4-7E7A-4A19-B050-243DA83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F6B4-860F-463E-B19B-19BDC34A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9AC0-B453-4EAD-B3B2-3C772AA0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C7E2-DF90-4CD1-BDDE-16DF5E92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5F4-9C26-47E9-9E97-F23BA663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EA374-517B-4022-B90D-5AC40200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E897-0788-4180-AC5A-B06FD87C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0C05-04F7-42DF-B916-7A3B0D4B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A9FA-DD23-4254-A98D-E31D47F8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5615E-EE70-4A6C-82E8-6538EC7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58EA-33F3-4FDB-9EBC-06A481D5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D065-F1E6-45B0-B628-149D8CE0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D2D62-FC59-47B5-B911-BA41245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7D52-F386-4382-83C5-DAA2990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1E23-26D1-4EAE-AE81-FD8D9579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A8E-45FD-42B4-AE00-699D2C2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74C2-9DB7-4AE0-9950-7D02F10F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F4A8B-0587-412E-9F40-BE9A80A1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883C-E056-46C7-A7F4-7060C345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82CAB-DF1D-4FBB-A3AD-29D188A5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8F943-8990-4BE2-A425-24D45690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FFF76-64FF-4D6B-A2CA-CB51EE0F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A383-26C2-44D9-B670-9792104E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28575-6371-45F6-B3ED-135E8FFA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BD3DC-BEA7-494D-B646-E1B9607A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8F66-A02A-4534-B2C8-34C5A687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281-BC8D-4B20-85A2-0A4B073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FD383-54D4-4F91-8AB9-56E35EF0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1CEDE-BFF6-4A9A-BE3C-91683526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08920-F9DD-426D-A507-D791FC48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E5E7E-92B9-4F1C-B9E9-B2C62335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17D47-1D94-4514-9991-C36E4F59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CEB72-9248-4C3B-BFC2-748BFED9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B5206-5827-435F-AC66-D9814A33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E0AB4-EAA7-427E-8ED2-7926EF69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E71F-3CE1-4405-A609-6BB17FDF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F1141-EFD1-4D1D-99F6-6D173EED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615-4C76-48E9-8130-7CE0D58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BC049-A68F-4440-8DEB-5E711FC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D5B4B-73E9-40EC-BA62-0F1655A1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18705-4CAA-46FD-A411-87811D98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70B99-F795-4BFB-90AD-BD5B7280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D14A-9616-4455-898D-923743C2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6F858-AAA6-426F-9D11-660D55EE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1548F-ADCD-4073-A53C-C17AE41D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BBBB0-305D-4427-B88A-29271F56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0882-5F48-4179-8575-0DECDB69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3E952-2898-43BE-8A63-DA344630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7F5-EBFB-43F0-AF39-9BC58D7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0B259-E8E6-4C38-85A2-FEB41031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752A6-6876-4A7A-9832-65F53B26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CFD2-A65D-4C6F-B9CE-66459F36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A6A88-C41C-473F-BB3B-BACCFAC5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B4908-5F4B-4553-B6C7-266DCBAA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6CA1A-52E8-45D1-92B6-9A9D50A8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71BF9-802C-4F6C-B1B4-30611B38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845FF-DA59-49DC-8A58-891B3C1E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AA3D1-3C12-47E6-B59A-6E0D0828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18A5A-4D3E-46A7-A844-863E8D45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5629-FDBD-4BDD-B830-FAA6C27919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0DBC-3671-4975-AC0F-62EEC7336E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9E9D-B80C-405A-85C6-DDCA5DCF60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BD76-23B1-4B85-B3F9-1AFB09A9B7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D36A-B075-4085-A0BA-7ED2A18AB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698-21B3-4E1C-BE90-443A7E3D6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2D42-A1FA-4288-94F2-B74F20CB69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195E-FFA9-4648-AF1B-7ED2BE164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780C-2DFB-4537-A402-D867879D6B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3FA-C354-4B5B-A618-99B57FCD1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2A58-366F-46DE-A25A-9CC234C7A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EFDC-D216-4152-B78B-E76164A243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0C61-6C19-4E00-B129-947169123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31F3-0719-40C5-B2E6-133FB3863A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E9B9-FD1A-43EF-A30A-77C6D691C3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F8E-924B-4864-84F4-798FD95208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E1CD-A48D-49E5-81D6-F0397F4D50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3F46-A46A-42ED-8FB6-CE02382688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DE28-8B36-4776-93A6-14ED290E2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4B9D-A906-43D3-B29C-5CFDBA8472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BB1-D046-4EA9-8F49-BC99E4E790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1DA0-26BF-4DCF-9CC3-0F7847067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D7BD-FB8E-48BC-8678-5A426016D4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5852-62F6-4B62-9A92-5ABA68B271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EC91-E99D-46B9-98EB-8396FC9FE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713A-681C-42E9-8C32-E8FE197DB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DBDF-5908-41F1-B436-D3B5BF9796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041A-D99D-42D6-AEE5-4965CB099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FCA1-8908-4905-8E23-7DBB9EC10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A83B-BD25-454F-AD36-22EE03D2D6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20FE-6AA2-471B-94A9-FAB01ED4EA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5566-F24E-48A4-B310-8D9DAFFA75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EC9E-A4E8-4A86-B849-2A71F2B205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9CC5-1A6A-4539-BBD6-F053520B0F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EBD3-4A5C-4CDE-8C7C-1524AEC37E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28D0-4CCB-4DE1-B027-47C9F3706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6455-E82B-4804-987D-90E22061AA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C41-7CC4-40D8-B25A-9BC412A581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8754-12FF-4C00-B8CB-351D9908BC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8E62-78DF-42EE-A81A-E8C33EB7C6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76440" y="2976480"/>
            <a:ext cx="59911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285840" y="747720"/>
            <a:ext cx="8572320" cy="5362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900000" y="2247840"/>
            <a:ext cx="5112000" cy="1944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900000" y="442116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900000" y="501336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826920" y="5661000"/>
            <a:ext cx="655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14280" y="662040"/>
            <a:ext cx="8515440" cy="5533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41128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06728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07200" y="2924280"/>
            <a:ext cx="67752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26836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356000" y="501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340000" y="566100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12000" y="5661000"/>
            <a:ext cx="1079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290520" y="1000080"/>
            <a:ext cx="8562960" cy="485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940360" y="170028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976320" y="714240"/>
            <a:ext cx="7191360" cy="542952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8374" descr=""/>
          <p:cNvPicPr/>
          <p:nvPr/>
        </p:nvPicPr>
        <p:blipFill>
          <a:blip r:embed="rId2"/>
          <a:stretch/>
        </p:blipFill>
        <p:spPr>
          <a:xfrm>
            <a:off x="250920" y="684360"/>
            <a:ext cx="81057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757080" y="776160"/>
            <a:ext cx="7629840" cy="5305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547640" y="414972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476360" y="5516640"/>
            <a:ext cx="525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1009800" y="1085760"/>
            <a:ext cx="7124400" cy="4686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403280" y="335772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568944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042920" y="4581360"/>
            <a:ext cx="568980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1042920" y="5229360"/>
            <a:ext cx="5689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295200" y="885960"/>
            <a:ext cx="8553600" cy="50860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00000" y="295272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900000" y="357336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583236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583236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826920" y="5516640"/>
            <a:ext cx="583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285840" y="2195640"/>
            <a:ext cx="85723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2231" descr=""/>
          <p:cNvPicPr/>
          <p:nvPr/>
        </p:nvPicPr>
        <p:blipFill>
          <a:blip r:embed="rId1"/>
          <a:stretch/>
        </p:blipFill>
        <p:spPr>
          <a:xfrm>
            <a:off x="628560" y="1052640"/>
            <a:ext cx="7886880" cy="47527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684360" y="1109520"/>
            <a:ext cx="5256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5256000" cy="863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11280" y="2809800"/>
            <a:ext cx="525600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611280" y="3429000"/>
            <a:ext cx="525600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539640" y="407664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539640" y="4710240"/>
            <a:ext cx="79930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50:3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